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Pokaz niestandardowy 1" id="0">
      <p:sldLst>
        <p:sld r:id="rId7"/>
      </p:sldLst>
    </p:custShow>
    <p:custShow name="Pokaz niestandardowy 2" id="1">
      <p:sldLst>
        <p:sld r:id="rId9"/>
      </p:sldLst>
    </p:custShow>
    <p:custShow name="Pokaz 1" id="2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0F0-6CDA-438A-A330-CB734845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238-CED0-40D1-AD82-D12FDDE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99B-4708-414F-9915-68A7A4C5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46D-DFDC-472F-BEFC-8B5C9E12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681-C098-4F82-84F1-1893324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988-F26E-4379-AEA1-7309C0A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593-6849-4857-8D9D-0A5DFAD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A9C-1AE8-40EC-8F5B-5C20F66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C58-5A12-4F38-A9AF-6FCCB90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755-935C-422A-9B93-E1FBC82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070-EBAD-48B3-97AA-0790D23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FBF-A9AB-4865-88C2-5EA22BC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F530-F8DA-44EA-B4C9-7AFF98995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hyperlink" Target="http://www.womar.pl/" TargetMode="External"/><Relationship Id="rId6" Type="http://schemas.openxmlformats.org/officeDocument/2006/relationships/hyperlink" Target="http://www.womar.pl/" TargetMode="External"/><Relationship Id="rId7" Type="http://schemas.openxmlformats.org/officeDocument/2006/relationships/hyperlink" Target="http://www.womar.pl/" TargetMode="External"/><Relationship Id="rId8" Type="http://schemas.openxmlformats.org/officeDocument/2006/relationships/hyperlink" Target="http://www.womar.pl/" TargetMode="External"/><Relationship Id="rId9" Type="http://schemas.openxmlformats.org/officeDocument/2006/relationships/hyperlink" Target="http://www.womar.pl/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ezentacja dla Kolekcjonerów Minera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4191120"/>
            <a:ext cx="281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kcja Internet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OneTwoSold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&gt;Świat pod mło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84840" y="5867280"/>
            <a:ext cx="514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by przejść do następnego slajdu wciśnij klawisz „Page Dow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1" descr=""/>
          <p:cNvPicPr/>
          <p:nvPr/>
        </p:nvPicPr>
        <p:blipFill>
          <a:blip r:embed="rId1"/>
          <a:stretch/>
        </p:blipFill>
        <p:spPr>
          <a:xfrm>
            <a:off x="6629400" y="4319640"/>
            <a:ext cx="186048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dziwne" descr=""/>
          <p:cNvPicPr/>
          <p:nvPr/>
        </p:nvPicPr>
        <p:blipFill>
          <a:blip r:embed="rId2"/>
          <a:stretch/>
        </p:blipFill>
        <p:spPr>
          <a:xfrm>
            <a:off x="1393920" y="1619280"/>
            <a:ext cx="64418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00240" y="557280"/>
            <a:ext cx="6872400" cy="50004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81240" y="988920"/>
            <a:ext cx="1114560" cy="19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JESTRAC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75000" y="990720"/>
            <a:ext cx="1036800" cy="19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ALOGUJ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981000"/>
            <a:ext cx="1082520" cy="1922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PRZED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973080"/>
            <a:ext cx="1033560" cy="184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M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13640" y="963720"/>
            <a:ext cx="1096920" cy="193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61320" y="958680"/>
            <a:ext cx="1035000" cy="19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4819680"/>
            <a:ext cx="4829040" cy="11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76600" y="5062680"/>
            <a:ext cx="34005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Cyjanit (Dysten) -Minerał, odmiana krzemianu glinu krystalizująca w układzie trójskośnym, występuje głównie w skałach metamorficzny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76600" y="4805280"/>
            <a:ext cx="33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8080"/>
                </a:solidFill>
                <a:uFillTx/>
                <a:latin typeface="Verdana"/>
              </a:rPr>
              <a:t>Cyjanit Dy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824360"/>
            <a:ext cx="100008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OKAZ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18360" y="1392120"/>
            <a:ext cx="207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a1f7b"/>
                </a:solidFill>
                <a:latin typeface="Verdana"/>
              </a:rPr>
              <a:t>Aukcja w Auk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a1f7b"/>
                </a:solidFill>
                <a:latin typeface="Verdana"/>
              </a:rPr>
              <a:t>Minerały, Skamieniał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zuk1" descr=""/>
          <p:cNvPicPr/>
          <p:nvPr/>
        </p:nvPicPr>
        <p:blipFill>
          <a:blip r:embed="rId1"/>
          <a:stretch/>
        </p:blipFill>
        <p:spPr>
          <a:xfrm>
            <a:off x="228600" y="1395360"/>
            <a:ext cx="1893960" cy="1563840"/>
          </a:xfrm>
          <a:prstGeom prst="rect">
            <a:avLst/>
          </a:prstGeom>
          <a:ln w="0">
            <a:noFill/>
          </a:ln>
        </p:spPr>
      </p:pic>
      <p:pic>
        <p:nvPicPr>
          <p:cNvPr id="97" name="awa1" descr=""/>
          <p:cNvPicPr/>
          <p:nvPr/>
        </p:nvPicPr>
        <p:blipFill>
          <a:blip r:embed="rId2"/>
          <a:stretch/>
        </p:blipFill>
        <p:spPr>
          <a:xfrm>
            <a:off x="7188120" y="1305000"/>
            <a:ext cx="1736640" cy="907920"/>
          </a:xfrm>
          <a:prstGeom prst="rect">
            <a:avLst/>
          </a:prstGeom>
          <a:ln w="0">
            <a:noFill/>
          </a:ln>
        </p:spPr>
      </p:pic>
      <p:pic>
        <p:nvPicPr>
          <p:cNvPr id="98" name="log1" descr=""/>
          <p:cNvPicPr/>
          <p:nvPr/>
        </p:nvPicPr>
        <p:blipFill>
          <a:blip r:embed="rId3"/>
          <a:stretch/>
        </p:blipFill>
        <p:spPr>
          <a:xfrm>
            <a:off x="7623000" y="227160"/>
            <a:ext cx="1065240" cy="650880"/>
          </a:xfrm>
          <a:prstGeom prst="rect">
            <a:avLst/>
          </a:prstGeom>
          <a:ln w="0">
            <a:noFill/>
          </a:ln>
        </p:spPr>
      </p:pic>
      <p:pic>
        <p:nvPicPr>
          <p:cNvPr id="99" name="logo1" descr=""/>
          <p:cNvPicPr/>
          <p:nvPr/>
        </p:nvPicPr>
        <p:blipFill>
          <a:blip r:embed="rId4"/>
          <a:stretch/>
        </p:blipFill>
        <p:spPr>
          <a:xfrm>
            <a:off x="241200" y="255600"/>
            <a:ext cx="18147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52520" y="2093760"/>
            <a:ext cx="4829400" cy="11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7240" y="2336760"/>
            <a:ext cx="34002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Agat -Różnobarwnie wstęgowana odmiana chalcedonu. Sprzedaż kamieni szlachetnych, minerałów, skamieniałości tel. 0601-34-01-21; (022)663-60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7240" y="2079720"/>
            <a:ext cx="33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8080"/>
                </a:solidFill>
                <a:uFillTx/>
                <a:latin typeface="Verdana"/>
              </a:rPr>
              <a:t>Ag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7560" y="2098800"/>
            <a:ext cx="100008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OKAZ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52520" y="3465360"/>
            <a:ext cx="4829400" cy="11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7240" y="3708360"/>
            <a:ext cx="3501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Sempertynit -Występuje w Afryce Południowej. Rzeźba przedstawiająca "Parę Zakochanych". Sprzedaż minerałów, muszli, wyrobów jubilerskich -Galeria Womar Collection w Łazienkach Królewskich, więcej informacji </a:t>
            </a:r>
            <a:r>
              <a:rPr b="0" lang="pl-PL" sz="10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www</a:t>
            </a:r>
            <a:r>
              <a:rPr b="0" lang="pl-PL" sz="10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.</a:t>
            </a:r>
            <a:r>
              <a:rPr b="0" lang="pl-PL" sz="10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omar</a:t>
            </a:r>
            <a:r>
              <a:rPr b="0" lang="pl-PL" sz="10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.</a:t>
            </a:r>
            <a:r>
              <a:rPr b="0" lang="pl-PL" sz="10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pl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7240" y="3451320"/>
            <a:ext cx="33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8080"/>
                </a:solidFill>
                <a:uFillTx/>
                <a:latin typeface="Verdana"/>
              </a:rPr>
              <a:t>Semperty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7560" y="3470400"/>
            <a:ext cx="100008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OKAZ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5760" y="3149640"/>
            <a:ext cx="20304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3124080"/>
            <a:ext cx="161928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nerał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3560000">
            <a:off x="451800" y="3185640"/>
            <a:ext cx="108000" cy="9828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760" y="3441600"/>
            <a:ext cx="20304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3416400"/>
            <a:ext cx="1619280" cy="21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kamieniałoś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3560000">
            <a:off x="451800" y="3477600"/>
            <a:ext cx="108000" cy="9828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440" y="3733920"/>
            <a:ext cx="20340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08360"/>
            <a:ext cx="161928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amienie szlachet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3560000">
            <a:off x="457200" y="3769920"/>
            <a:ext cx="108000" cy="9864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45320" y="6070680"/>
            <a:ext cx="127008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880" y="6070680"/>
            <a:ext cx="13464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78440" y="6070680"/>
            <a:ext cx="133344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0440" y="6070680"/>
            <a:ext cx="1397160" cy="787320"/>
          </a:xfrm>
          <a:prstGeom prst="rect">
            <a:avLst/>
          </a:prstGeom>
          <a:noFill/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9440" y="6070680"/>
            <a:ext cx="135900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2805120" y="6126120"/>
            <a:ext cx="2570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4164120" y="6126120"/>
            <a:ext cx="257040" cy="23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5522760" y="6113520"/>
            <a:ext cx="257400" cy="23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6831000" y="6113520"/>
            <a:ext cx="257040" cy="237960"/>
          </a:xfrm>
          <a:prstGeom prst="rect">
            <a:avLst/>
          </a:prstGeom>
          <a:ln w="9360">
            <a:solidFill>
              <a:srgbClr val="340369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8151840" y="6113520"/>
            <a:ext cx="257040" cy="237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2840" y="6313320"/>
            <a:ext cx="10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przedając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4280" y="633888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 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djęc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4480" y="6300720"/>
            <a:ext cx="107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ukcja w aukcj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46960" y="633888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ż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cytując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2240" y="633888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ż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cytując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84400" y="201600"/>
            <a:ext cx="5576760" cy="703440"/>
          </a:xfrm>
          <a:prstGeom prst="rect">
            <a:avLst/>
          </a:prstGeom>
          <a:solidFill>
            <a:srgbClr val="3d03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Minerały Skamienia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ez%20nazwy%202" descr=""/>
          <p:cNvPicPr/>
          <p:nvPr/>
        </p:nvPicPr>
        <p:blipFill>
          <a:blip r:embed="rId15"/>
          <a:stretch/>
        </p:blipFill>
        <p:spPr>
          <a:xfrm>
            <a:off x="7155000" y="2327400"/>
            <a:ext cx="1717560" cy="753840"/>
          </a:xfrm>
          <a:prstGeom prst="rect">
            <a:avLst/>
          </a:prstGeom>
          <a:ln w="0">
            <a:noFill/>
          </a:ln>
        </p:spPr>
      </p:pic>
      <p:pic>
        <p:nvPicPr>
          <p:cNvPr id="134" name="obrazek2" descr=""/>
          <p:cNvPicPr/>
          <p:nvPr/>
        </p:nvPicPr>
        <p:blipFill>
          <a:blip r:embed="rId16"/>
          <a:stretch/>
        </p:blipFill>
        <p:spPr>
          <a:xfrm>
            <a:off x="2557440" y="3657600"/>
            <a:ext cx="44604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obrazek3" descr=""/>
          <p:cNvPicPr/>
          <p:nvPr/>
        </p:nvPicPr>
        <p:blipFill>
          <a:blip r:embed="rId17"/>
          <a:stretch/>
        </p:blipFill>
        <p:spPr>
          <a:xfrm>
            <a:off x="2508120" y="5016600"/>
            <a:ext cx="57168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obrazek1" descr=""/>
          <p:cNvPicPr/>
          <p:nvPr/>
        </p:nvPicPr>
        <p:blipFill>
          <a:blip r:embed="rId18"/>
          <a:stretch/>
        </p:blipFill>
        <p:spPr>
          <a:xfrm>
            <a:off x="2347920" y="2292480"/>
            <a:ext cx="9414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94560" y="6006960"/>
            <a:ext cx="127008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61120" y="6006960"/>
            <a:ext cx="134604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27680" y="6006960"/>
            <a:ext cx="133344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6006960"/>
            <a:ext cx="1397160" cy="851040"/>
          </a:xfrm>
          <a:prstGeom prst="rect">
            <a:avLst/>
          </a:prstGeom>
          <a:noFill/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8680" y="6006960"/>
            <a:ext cx="13590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00240" y="557280"/>
            <a:ext cx="6872400" cy="50004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81240" y="988920"/>
            <a:ext cx="1114560" cy="19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JESTRAC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75000" y="990720"/>
            <a:ext cx="1036800" cy="19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ALOGUJ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7480" y="981000"/>
            <a:ext cx="1082520" cy="1922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PRZED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2840" y="973080"/>
            <a:ext cx="1033560" cy="184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M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3640" y="963720"/>
            <a:ext cx="1096920" cy="193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61320" y="973080"/>
            <a:ext cx="1035000" cy="184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760" y="1314360"/>
            <a:ext cx="4714920" cy="455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52520" y="2695680"/>
            <a:ext cx="4672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4720" y="1886040"/>
            <a:ext cx="4686120" cy="94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43160" y="2571840"/>
            <a:ext cx="4686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3160" y="1328760"/>
            <a:ext cx="1000080" cy="14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86160" y="162864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8080"/>
                </a:solidFill>
                <a:uFillTx/>
                <a:latin typeface="Verdana"/>
              </a:rPr>
              <a:t>Wszystk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7720" y="1300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80"/>
                </a:solidFill>
                <a:latin typeface="Verdana"/>
              </a:rPr>
              <a:t>Ag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43160" y="2557440"/>
            <a:ext cx="87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kceptu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0" y="2552760"/>
            <a:ext cx="14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neTwo Sp. z o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29080" y="2614680"/>
            <a:ext cx="142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3200" y="191448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dbij stawkę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1400" y="21668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lość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57760" y="1943280"/>
            <a:ext cx="728640" cy="242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3080" y="2238480"/>
            <a:ext cx="728640" cy="242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1600" y="2900520"/>
            <a:ext cx="3086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arunki płatności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zy odbior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posób dostawy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cztą, osobiście, firm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urierską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okalizacja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rsza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67200" y="2552760"/>
            <a:ext cx="11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8080"/>
                </a:solidFill>
                <a:uFillTx/>
                <a:latin typeface="Verdana"/>
              </a:rPr>
              <a:t>Regula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1600" y="388620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przedają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7720" y="388620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nerał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4880" y="4143240"/>
            <a:ext cx="26002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Agat -Różnobarwnie wstęgowana odmiana chalcedonu. Sprzedaż kamieni szlachetnych, minerałów, skamieniałości tel. 0601-34-01-21; (022)663-60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9360" y="1285920"/>
            <a:ext cx="1914480" cy="261468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5320" y="1628640"/>
            <a:ext cx="190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4680" y="1909800"/>
            <a:ext cx="190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48440" y="2190600"/>
            <a:ext cx="1900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8440" y="2476440"/>
            <a:ext cx="1900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34040" y="2776680"/>
            <a:ext cx="1900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090960"/>
            <a:ext cx="190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0960" y="3529080"/>
            <a:ext cx="828720" cy="3142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dświe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43680" y="3057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dliczani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29520" y="3282840"/>
            <a:ext cx="14572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 Dni 23: 19: 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58080" y="1243080"/>
            <a:ext cx="19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a wywoławcza PLN 1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58080" y="140004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a sztukę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3680" y="1628640"/>
            <a:ext cx="22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a aktualna:      PLN 400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8080" y="192888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stąpienie: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53400" y="219564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cytujący: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67440" y="248112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lość: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9000" y="2809800"/>
            <a:ext cx="14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a zakończenia: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67680" y="19242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LN 5--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220968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67680" y="2495520"/>
            <a:ext cx="28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6760" y="2724120"/>
            <a:ext cx="78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8,11,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22:08: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3971880"/>
            <a:ext cx="1928520" cy="1328760"/>
          </a:xfrm>
          <a:prstGeom prst="rect">
            <a:avLst/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00920" y="4000680"/>
            <a:ext cx="1928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Musisz być zarejestrowany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Żeby Móc licytować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43840" y="4324320"/>
            <a:ext cx="200016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 u="sng">
                <a:solidFill>
                  <a:srgbClr val="008080"/>
                </a:solidFill>
                <a:uFillTx/>
                <a:latin typeface="Verdana"/>
              </a:rPr>
              <a:t>Rejestrac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 u="sng">
                <a:solidFill>
                  <a:srgbClr val="008080"/>
                </a:solidFill>
                <a:uFillTx/>
                <a:latin typeface="Verdana"/>
              </a:rPr>
              <a:t>Zapomniałem hasł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 u="sng">
                <a:solidFill>
                  <a:srgbClr val="008080"/>
                </a:solidFill>
                <a:uFillTx/>
                <a:latin typeface="Verdana"/>
              </a:rPr>
              <a:t>Historia licytacj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 u="sng">
                <a:solidFill>
                  <a:srgbClr val="008080"/>
                </a:solidFill>
                <a:uFillTx/>
                <a:latin typeface="Verdana"/>
              </a:rPr>
              <a:t>Pokaż aukcje tego       sprzedające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86680" y="1914480"/>
            <a:ext cx="500040" cy="6001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3040" y="1938240"/>
            <a:ext cx="428760" cy="414360"/>
          </a:xfrm>
          <a:prstGeom prst="rect">
            <a:avLst/>
          </a:prstGeom>
          <a:solidFill>
            <a:srgbClr val="340369"/>
          </a:solidFill>
          <a:ln w="3240">
            <a:solidFill>
              <a:srgbClr val="34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29440" y="23288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40369"/>
                </a:solidFill>
                <a:latin typeface="Verdana"/>
              </a:rPr>
              <a:t>LICYTU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29240" y="2228760"/>
            <a:ext cx="142920" cy="88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67320" y="2095560"/>
            <a:ext cx="257400" cy="117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528600" y="1971720"/>
            <a:ext cx="42840" cy="117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452640" y="1981080"/>
            <a:ext cx="42840" cy="117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52640" y="2070000"/>
            <a:ext cx="185400" cy="57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72160" y="211464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15280" y="21574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ogo1" descr=""/>
          <p:cNvPicPr/>
          <p:nvPr/>
        </p:nvPicPr>
        <p:blipFill>
          <a:blip r:embed="rId1"/>
          <a:stretch/>
        </p:blipFill>
        <p:spPr>
          <a:xfrm>
            <a:off x="241200" y="255600"/>
            <a:ext cx="1814760" cy="987480"/>
          </a:xfrm>
          <a:prstGeom prst="rect">
            <a:avLst/>
          </a:prstGeom>
          <a:ln w="0">
            <a:noFill/>
          </a:ln>
        </p:spPr>
      </p:pic>
      <p:pic>
        <p:nvPicPr>
          <p:cNvPr id="203" name="szuk1" descr=""/>
          <p:cNvPicPr/>
          <p:nvPr/>
        </p:nvPicPr>
        <p:blipFill>
          <a:blip r:embed="rId2"/>
          <a:stretch/>
        </p:blipFill>
        <p:spPr>
          <a:xfrm>
            <a:off x="190440" y="1363680"/>
            <a:ext cx="1932120" cy="1595520"/>
          </a:xfrm>
          <a:prstGeom prst="rect">
            <a:avLst/>
          </a:prstGeom>
          <a:ln w="0">
            <a:noFill/>
          </a:ln>
        </p:spPr>
      </p:pic>
      <p:pic>
        <p:nvPicPr>
          <p:cNvPr id="204" name="log1" descr=""/>
          <p:cNvPicPr/>
          <p:nvPr/>
        </p:nvPicPr>
        <p:blipFill>
          <a:blip r:embed="rId3"/>
          <a:stretch/>
        </p:blipFill>
        <p:spPr>
          <a:xfrm>
            <a:off x="7610400" y="233280"/>
            <a:ext cx="1035000" cy="63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754360" y="61070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113360" y="61070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472000" y="60944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780240" y="6094440"/>
            <a:ext cx="257040" cy="257040"/>
          </a:xfrm>
          <a:prstGeom prst="rect">
            <a:avLst/>
          </a:prstGeom>
          <a:ln w="9360">
            <a:solidFill>
              <a:srgbClr val="34036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8101080" y="6094440"/>
            <a:ext cx="257040" cy="257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32080" y="6283440"/>
            <a:ext cx="10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przedając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63520" y="63086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 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djęc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13720" y="6283440"/>
            <a:ext cx="107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ukcja w aukcj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95840" y="630864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ż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cytując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91480" y="630864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ż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cytując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760" y="3149640"/>
            <a:ext cx="20304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8640" y="3124080"/>
            <a:ext cx="161928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inerał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3560000">
            <a:off x="451800" y="3185640"/>
            <a:ext cx="108000" cy="9828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760" y="3441600"/>
            <a:ext cx="20304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8640" y="3416400"/>
            <a:ext cx="1619280" cy="21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kamieniałoś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3560000">
            <a:off x="451800" y="3477600"/>
            <a:ext cx="108000" cy="9828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" y="3733920"/>
            <a:ext cx="203400" cy="158760"/>
          </a:xfrm>
          <a:prstGeom prst="roundRect">
            <a:avLst>
              <a:gd name="adj" fmla="val 16667"/>
            </a:avLst>
          </a:prstGeom>
          <a:solidFill>
            <a:srgbClr val="3403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3680" y="3708360"/>
            <a:ext cx="161928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amienie szlachet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3560000">
            <a:off x="457200" y="3769920"/>
            <a:ext cx="108000" cy="98640"/>
          </a:xfrm>
          <a:prstGeom prst="rtTriangle">
            <a:avLst/>
          </a:prstGeom>
          <a:solidFill>
            <a:srgbClr val="34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84400" y="201600"/>
            <a:ext cx="5576760" cy="703440"/>
          </a:xfrm>
          <a:prstGeom prst="rect">
            <a:avLst/>
          </a:prstGeom>
          <a:solidFill>
            <a:srgbClr val="3d03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Minerały Skamieniał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azek1" descr=""/>
          <p:cNvPicPr/>
          <p:nvPr/>
        </p:nvPicPr>
        <p:blipFill>
          <a:blip r:embed="rId9"/>
          <a:stretch/>
        </p:blipFill>
        <p:spPr>
          <a:xfrm>
            <a:off x="2284560" y="4089240"/>
            <a:ext cx="1766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stępny krok: Świat pod młotek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wspólne dział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38760" y="4334040"/>
            <a:ext cx="281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kcja Internet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OneTwoSold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&gt;Świat pod mło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ksie1" descr=""/>
          <p:cNvPicPr/>
          <p:nvPr/>
        </p:nvPicPr>
        <p:blipFill>
          <a:blip r:embed="rId1"/>
          <a:stretch/>
        </p:blipFill>
        <p:spPr>
          <a:xfrm>
            <a:off x="1292400" y="2063880"/>
            <a:ext cx="66070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3808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bój handlu elektronicznego: aukcje internet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4156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mpo wzrostu obrotów: kilkaset procent rocz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73060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8% obrotów e-commerce w USA to aukcje internet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421080"/>
            <a:ext cx="77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ernet pozwala na masową skalę stosować znany od wielu wieków mechanizm ustalania c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41468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stęp do zasobnych grup kli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10552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rywka i emocje towarzyszące zakupom na au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395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my wysoki poziom odwiedzin naszego sewi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516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0000 zarejestrowanych użytkow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7028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5 000 odwiedzających dzien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606840"/>
            <a:ext cx="77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00 000 wyświetleń stron dzien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343400"/>
            <a:ext cx="77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owary ze strony głównej licytowane przez kilkadziesiąt osó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324000"/>
            <a:ext cx="6248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rtnerom internetowym oferujemy „Aukcję w Aukcj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1880"/>
            <a:ext cx="77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łasny internetowy dom aukcyjny w ciągu kilku 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376360"/>
            <a:ext cx="77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zupełnienie własnej oferty 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852640"/>
            <a:ext cx="77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stęp przez nasz portal aukcyjny oraz z własnej strony internet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603600"/>
            <a:ext cx="77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liwość definiowania własnych kategorii produk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79880"/>
            <a:ext cx="77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ństwa produkty widoczne w Państwa „Aukcji w Aukcji” oraz dostępne poprzez kategorie pełnego domu aukcyj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05520"/>
            <a:ext cx="77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liwość skierowania zainteresowanych na Państwa strony internetowe i promocja produktów dostępnych tradycyjnymi kanał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1160" y="399960"/>
            <a:ext cx="6248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kcja w Aukcji” zdobyła już wielu zwolennikó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1800" y="540396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lska  „Aukcja w Aukcj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03960"/>
            <a:ext cx="4851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striacka „Auction in Au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iaa" descr=""/>
          <p:cNvPicPr/>
          <p:nvPr/>
        </p:nvPicPr>
        <p:blipFill>
          <a:blip r:embed="rId1"/>
          <a:stretch/>
        </p:blipFill>
        <p:spPr>
          <a:xfrm>
            <a:off x="0" y="1658880"/>
            <a:ext cx="4375080" cy="3133800"/>
          </a:xfrm>
          <a:prstGeom prst="rect">
            <a:avLst/>
          </a:prstGeom>
          <a:ln w="0">
            <a:noFill/>
          </a:ln>
        </p:spPr>
      </p:pic>
      <p:pic>
        <p:nvPicPr>
          <p:cNvPr id="68" name="skladak45" descr=""/>
          <p:cNvPicPr/>
          <p:nvPr/>
        </p:nvPicPr>
        <p:blipFill>
          <a:blip r:embed="rId2"/>
          <a:stretch/>
        </p:blipFill>
        <p:spPr>
          <a:xfrm>
            <a:off x="4680000" y="1685880"/>
            <a:ext cx="4464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2743200"/>
            <a:ext cx="624816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ykład Aukcji w Au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rały, skamieniał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aleria_Nowa_1" descr=""/>
          <p:cNvPicPr/>
          <p:nvPr/>
        </p:nvPicPr>
        <p:blipFill>
          <a:blip r:embed="rId1"/>
          <a:stretch/>
        </p:blipFill>
        <p:spPr>
          <a:xfrm>
            <a:off x="0" y="1108080"/>
            <a:ext cx="828216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ństwa firma wśród naszych partnerów „Aukcji w Aukcj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02520" y="3327480"/>
            <a:ext cx="1041480" cy="87624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asz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o 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sze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o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65960" y="3492360"/>
            <a:ext cx="749520" cy="559080"/>
          </a:xfrm>
          <a:prstGeom prst="leftArrow">
            <a:avLst>
              <a:gd name="adj1" fmla="val 45454"/>
              <a:gd name="adj2" fmla="val 625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3640" y="3541680"/>
            <a:ext cx="1195560" cy="459000"/>
          </a:xfrm>
          <a:prstGeom prst="rect">
            <a:avLst/>
          </a:prstGeom>
          <a:solidFill>
            <a:srgbClr val="3d03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Minerał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Skamieniał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ez%20nazwy%202" descr=""/>
          <p:cNvPicPr/>
          <p:nvPr/>
        </p:nvPicPr>
        <p:blipFill>
          <a:blip r:embed="rId2"/>
          <a:stretch/>
        </p:blipFill>
        <p:spPr>
          <a:xfrm>
            <a:off x="6138720" y="5195880"/>
            <a:ext cx="12351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tro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nasze1" descr=""/>
          <p:cNvPicPr/>
          <p:nvPr/>
        </p:nvPicPr>
        <p:blipFill>
          <a:blip r:embed="rId2"/>
          <a:stretch/>
        </p:blipFill>
        <p:spPr>
          <a:xfrm>
            <a:off x="3540240" y="2671920"/>
            <a:ext cx="115092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aleria_AIA-new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705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39160" y="232884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Minerał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82880" y="2471760"/>
            <a:ext cx="12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8080"/>
                </a:solidFill>
                <a:uFillTx/>
                <a:latin typeface="Verdana"/>
              </a:rPr>
              <a:t>Semperty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3880" y="2673360"/>
            <a:ext cx="116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iepowtarzal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zent ślubny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ez%20nazwy%202" descr=""/>
          <p:cNvPicPr/>
          <p:nvPr/>
        </p:nvPicPr>
        <p:blipFill>
          <a:blip r:embed="rId2"/>
          <a:stretch/>
        </p:blipFill>
        <p:spPr>
          <a:xfrm>
            <a:off x="627120" y="2492280"/>
            <a:ext cx="1450800" cy="385920"/>
          </a:xfrm>
          <a:prstGeom prst="rect">
            <a:avLst/>
          </a:prstGeom>
          <a:ln w="0">
            <a:noFill/>
          </a:ln>
        </p:spPr>
      </p:pic>
      <p:pic>
        <p:nvPicPr>
          <p:cNvPr id="83" name="obrazek2" descr=""/>
          <p:cNvPicPr/>
          <p:nvPr/>
        </p:nvPicPr>
        <p:blipFill>
          <a:blip r:embed="rId3"/>
          <a:stretch/>
        </p:blipFill>
        <p:spPr>
          <a:xfrm>
            <a:off x="2379600" y="2400480"/>
            <a:ext cx="2905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8:18:35Z</dcterms:created>
  <dc:creator>Zbigniew Płuciennik</dc:creator>
  <dc:description/>
  <dc:language>en-US</dc:language>
  <cp:lastModifiedBy>Płuciennik</cp:lastModifiedBy>
  <dcterms:modified xsi:type="dcterms:W3CDTF">2001-05-16T15:48:57Z</dcterms:modified>
  <cp:revision>76</cp:revision>
  <dc:subject/>
  <dc:title>Prezentacja programu PowerPoint</dc:title>
</cp:coreProperties>
</file>